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1A20-CE4D-4E95-BDED-AE2A875A0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913F-4488-4C30-97B2-759F4593F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D1C8-6A24-4190-BE4A-777AFD431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D5CB-F84F-4EB4-93EA-DC41F59A4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F689-0D46-4E91-BB45-C87DF1F84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AD97-CD3E-4479-964D-281DD6F88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9A8E-F8B5-452A-ACDE-1A0249A33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o is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n Hatfield and Ken Pinzk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673F-841A-4BCE-9C9C-BBE77E3FF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0BD8-9FE0-41A1-AF06-3D7C1BADA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00E4-9764-446B-BD36-631D9206E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CB53-EE31-497F-B20D-E6CCA8FFB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1B30-CD4C-49A3-95D4-6E5A80618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3AF0-4B11-438A-8877-81C1158C0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4C45-F4F0-4372-A590-8563C500A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DD69-A4AC-417A-AAF1-DA977403E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B997-03E6-48A0-95A9-62D1C2D78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8793-5DB1-45FA-90B4-1B8EA95A1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6450-6C44-4C8D-9675-979C48DBF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6"/>
          <p:cNvGrpSpPr/>
          <p:nvPr/>
        </p:nvGrpSpPr>
        <p:grpSpPr>
          <a:xfrm>
            <a:off x="2514600" y="1087560"/>
            <a:ext cx="4714560" cy="5236200"/>
            <a:chOff x="2514600" y="1087560"/>
            <a:chExt cx="4714560" cy="5236200"/>
          </a:xfrm>
        </p:grpSpPr>
        <p:sp>
          <p:nvSpPr>
            <p:cNvPr id="82" name="Oval 7"/>
            <p:cNvSpPr/>
            <p:nvPr/>
          </p:nvSpPr>
          <p:spPr>
            <a:xfrm>
              <a:off x="3098520" y="5243040"/>
              <a:ext cx="3362040" cy="108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Picture 8" descr="wire01 copy"/>
            <p:cNvPicPr/>
            <p:nvPr/>
          </p:nvPicPr>
          <p:blipFill>
            <a:blip r:embed="rId1"/>
            <a:stretch/>
          </p:blipFill>
          <p:spPr>
            <a:xfrm>
              <a:off x="2514600" y="1087560"/>
              <a:ext cx="4714560" cy="47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124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Prentice</a:t>
            </a:r>
            <a:r>
              <a:rPr b="0" i="1" lang="en-US" sz="4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Hall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ARTH SCIEN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28480" y="51814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rbuc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utge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4641120" y="5348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23"/>
          <p:cNvGrpSpPr/>
          <p:nvPr/>
        </p:nvGrpSpPr>
        <p:grpSpPr>
          <a:xfrm>
            <a:off x="5105520" y="-360"/>
            <a:ext cx="4068360" cy="3305160"/>
            <a:chOff x="5105520" y="-360"/>
            <a:chExt cx="4068360" cy="3305160"/>
          </a:xfrm>
        </p:grpSpPr>
        <p:sp>
          <p:nvSpPr>
            <p:cNvPr id="88" name="Freeform 17"/>
            <p:cNvSpPr/>
            <p:nvPr/>
          </p:nvSpPr>
          <p:spPr>
            <a:xfrm rot="10800000">
              <a:off x="5119200" y="-360"/>
              <a:ext cx="405468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 rot="10800000">
              <a:off x="5105520" y="14040"/>
              <a:ext cx="4054320" cy="134280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8"/>
                </a:gs>
                <a:gs pos="100000">
                  <a:srgbClr val="ff3e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24"/>
          <p:cNvGrpSpPr/>
          <p:nvPr/>
        </p:nvGrpSpPr>
        <p:grpSpPr>
          <a:xfrm>
            <a:off x="0" y="3546360"/>
            <a:ext cx="4054320" cy="3311640"/>
            <a:chOff x="0" y="3546360"/>
            <a:chExt cx="4054320" cy="3311640"/>
          </a:xfrm>
        </p:grpSpPr>
        <p:sp>
          <p:nvSpPr>
            <p:cNvPr id="91" name="Freeform 20"/>
            <p:cNvSpPr/>
            <p:nvPr/>
          </p:nvSpPr>
          <p:spPr>
            <a:xfrm>
              <a:off x="0" y="3546360"/>
              <a:ext cx="405432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0" y="5514840"/>
              <a:ext cx="4054320" cy="1343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3e44"/>
                </a:gs>
                <a:gs pos="100000">
                  <a:srgbClr val="ff0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00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01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5"/>
              <p:cNvSpPr/>
              <p:nvPr/>
            </p:nvSpPr>
            <p:spPr>
              <a:xfrm>
                <a:off x="1020600" y="1638360"/>
                <a:ext cx="3794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Doppler Effec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04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06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09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1260360" y="2163600"/>
            <a:ext cx="75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oppler effe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apparent change in frequency of electromagnetic or sound waves caused by the relative motions of the source and the obser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1260360" y="3929040"/>
            <a:ext cx="75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 astronomy, the Doppler effect is used to determine whether a star or other body in space is moving away from or toward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15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17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20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Doppler Eff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14"/>
          <p:cNvGrpSpPr/>
          <p:nvPr/>
        </p:nvGrpSpPr>
        <p:grpSpPr>
          <a:xfrm>
            <a:off x="247680" y="2006640"/>
            <a:ext cx="8648640" cy="4165560"/>
            <a:chOff x="247680" y="2006640"/>
            <a:chExt cx="8648640" cy="4165560"/>
          </a:xfrm>
        </p:grpSpPr>
        <p:sp>
          <p:nvSpPr>
            <p:cNvPr id="224" name="AutoShape 11"/>
            <p:cNvSpPr/>
            <p:nvPr/>
          </p:nvSpPr>
          <p:spPr>
            <a:xfrm>
              <a:off x="247680" y="2006640"/>
              <a:ext cx="8648640" cy="4165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5" name="Picture 13" descr=""/>
            <p:cNvPicPr/>
            <p:nvPr/>
          </p:nvPicPr>
          <p:blipFill>
            <a:blip r:embed="rId1"/>
            <a:stretch/>
          </p:blipFill>
          <p:spPr>
            <a:xfrm>
              <a:off x="501480" y="2430360"/>
              <a:ext cx="8142480" cy="3317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27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28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5"/>
              <p:cNvSpPr/>
              <p:nvPr/>
            </p:nvSpPr>
            <p:spPr>
              <a:xfrm>
                <a:off x="1022040" y="1638360"/>
                <a:ext cx="451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Refracting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3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3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3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1260360" y="2163600"/>
            <a:ext cx="747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racting telesco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telescope 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ses a lens to bend or refract l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6"/>
          <p:cNvSpPr/>
          <p:nvPr/>
        </p:nvSpPr>
        <p:spPr>
          <a:xfrm>
            <a:off x="1260360" y="307332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1736640" y="3548160"/>
            <a:ext cx="702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important lens in a refracting telescope, the objective lens, produces an image by bending light from a distant object so t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e light converges at an area called the focus (focus = central poin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43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48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ck Tele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1581120" y="2070000"/>
            <a:ext cx="5981760" cy="4216680"/>
            <a:chOff x="1581120" y="2070000"/>
            <a:chExt cx="5981760" cy="4216680"/>
          </a:xfrm>
        </p:grpSpPr>
        <p:sp>
          <p:nvSpPr>
            <p:cNvPr id="252" name="AutoShape 11"/>
            <p:cNvSpPr/>
            <p:nvPr/>
          </p:nvSpPr>
          <p:spPr>
            <a:xfrm>
              <a:off x="1581120" y="2070000"/>
              <a:ext cx="5981760" cy="42166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3" name="Picture 13" descr=""/>
            <p:cNvPicPr/>
            <p:nvPr/>
          </p:nvPicPr>
          <p:blipFill>
            <a:blip r:embed="rId1"/>
            <a:stretch/>
          </p:blipFill>
          <p:spPr>
            <a:xfrm>
              <a:off x="1961640" y="2391840"/>
              <a:ext cx="5221080" cy="357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55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60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mple Refracting Tele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14"/>
          <p:cNvGrpSpPr/>
          <p:nvPr/>
        </p:nvGrpSpPr>
        <p:grpSpPr>
          <a:xfrm>
            <a:off x="209520" y="2247840"/>
            <a:ext cx="8724960" cy="3593880"/>
            <a:chOff x="209520" y="2247840"/>
            <a:chExt cx="8724960" cy="3593880"/>
          </a:xfrm>
        </p:grpSpPr>
        <p:sp>
          <p:nvSpPr>
            <p:cNvPr id="264" name="AutoShape 11"/>
            <p:cNvSpPr/>
            <p:nvPr/>
          </p:nvSpPr>
          <p:spPr>
            <a:xfrm>
              <a:off x="209520" y="2247840"/>
              <a:ext cx="8724960" cy="35938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13" descr=""/>
            <p:cNvPicPr/>
            <p:nvPr/>
          </p:nvPicPr>
          <p:blipFill>
            <a:blip r:embed="rId1"/>
            <a:stretch/>
          </p:blipFill>
          <p:spPr>
            <a:xfrm>
              <a:off x="401760" y="2630160"/>
              <a:ext cx="8340480" cy="282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67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68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5"/>
              <p:cNvSpPr/>
              <p:nvPr/>
            </p:nvSpPr>
            <p:spPr>
              <a:xfrm>
                <a:off x="1022040" y="1638360"/>
                <a:ext cx="4515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Refracting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7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7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7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5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romatic Aber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1736640" y="263376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romatic aber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property of a lens whereby light of different colors is focused at different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82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83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5"/>
              <p:cNvSpPr/>
              <p:nvPr/>
            </p:nvSpPr>
            <p:spPr>
              <a:xfrm>
                <a:off x="1022040" y="1638360"/>
                <a:ext cx="446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Reflecting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86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88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91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1260360" y="216360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flecting telescop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a telescope that reflects light off a concave mirror, focusing the image in front of the mi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7"/>
          <p:cNvSpPr/>
          <p:nvPr/>
        </p:nvSpPr>
        <p:spPr>
          <a:xfrm>
            <a:off x="1260360" y="348624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flecting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8"/>
          <p:cNvSpPr/>
          <p:nvPr/>
        </p:nvSpPr>
        <p:spPr>
          <a:xfrm>
            <a:off x="1736640" y="3967200"/>
            <a:ext cx="70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large optical telescopes are reflectors. Light does not pass through a mirror, so the glass for a reflecting telescope does not have to be of optical qua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98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00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03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3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ewing Methods wit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flecting Telesco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Group 14"/>
          <p:cNvGrpSpPr/>
          <p:nvPr/>
        </p:nvGrpSpPr>
        <p:grpSpPr>
          <a:xfrm>
            <a:off x="2921040" y="1587600"/>
            <a:ext cx="3301920" cy="5092560"/>
            <a:chOff x="2921040" y="1587600"/>
            <a:chExt cx="3301920" cy="5092560"/>
          </a:xfrm>
        </p:grpSpPr>
        <p:sp>
          <p:nvSpPr>
            <p:cNvPr id="307" name="AutoShape 11"/>
            <p:cNvSpPr/>
            <p:nvPr/>
          </p:nvSpPr>
          <p:spPr>
            <a:xfrm>
              <a:off x="2921040" y="1587600"/>
              <a:ext cx="3301920" cy="5092560"/>
            </a:xfrm>
            <a:custGeom>
              <a:avLst/>
              <a:gdLst>
                <a:gd name="textAreaLeft" fmla="*/ 213840 w 3301920"/>
                <a:gd name="textAreaRight" fmla="*/ 3088080 w 3301920"/>
                <a:gd name="textAreaTop" fmla="*/ 213840 h 5092560"/>
                <a:gd name="textAreaBottom" fmla="*/ 4878720 h 5092560"/>
              </a:gdLst>
              <a:ahLst/>
              <a:rect l="textAreaLeft" t="textAreaTop" r="textAreaRight" b="textAreaBottom"/>
              <a:pathLst>
                <a:path w="21600" h="33312">
                  <a:moveTo>
                    <a:pt x="4780" y="0"/>
                  </a:moveTo>
                  <a:arcTo wR="4780" hR="4780" stAng="16200000" swAng="-5400000"/>
                  <a:lnTo>
                    <a:pt x="0" y="28532"/>
                  </a:lnTo>
                  <a:arcTo wR="4780" hR="4780" stAng="10800000" swAng="-5400000"/>
                  <a:lnTo>
                    <a:pt x="16820" y="33312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8" name="Picture 13" descr=""/>
            <p:cNvPicPr/>
            <p:nvPr/>
          </p:nvPicPr>
          <p:blipFill>
            <a:blip r:embed="rId1"/>
            <a:stretch/>
          </p:blipFill>
          <p:spPr>
            <a:xfrm>
              <a:off x="3460680" y="1728720"/>
              <a:ext cx="2220840" cy="481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10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11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5"/>
              <p:cNvSpPr/>
              <p:nvPr/>
            </p:nvSpPr>
            <p:spPr>
              <a:xfrm>
                <a:off x="1022040" y="1638360"/>
                <a:ext cx="4469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Reflecting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14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5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16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19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5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ies of Optical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1736640" y="264492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refracting and reflecting telescopes have three properties that aid astronomers in their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1992240" y="379872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Light-gather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20"/>
          <p:cNvSpPr/>
          <p:nvPr/>
        </p:nvSpPr>
        <p:spPr>
          <a:xfrm>
            <a:off x="1992240" y="421956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olv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21"/>
          <p:cNvSpPr/>
          <p:nvPr/>
        </p:nvSpPr>
        <p:spPr>
          <a:xfrm>
            <a:off x="1992240" y="465300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agnify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28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29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5"/>
              <p:cNvSpPr/>
              <p:nvPr/>
            </p:nvSpPr>
            <p:spPr>
              <a:xfrm>
                <a:off x="1021320" y="1638360"/>
                <a:ext cx="573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Detecting Invisible Radi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32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3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34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37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15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6"/>
          <p:cNvSpPr/>
          <p:nvPr/>
        </p:nvSpPr>
        <p:spPr>
          <a:xfrm>
            <a:off x="1736640" y="26337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dio telesco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telescope designed to make observations in radio waveleng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20"/>
          <p:cNvSpPr/>
          <p:nvPr/>
        </p:nvSpPr>
        <p:spPr>
          <a:xfrm>
            <a:off x="1736640" y="343224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dio telescope focuses the incoming radio waves on an antenna, which, just like a radio antenna, absorbs and transmits these waves to an amplif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0" y="7920"/>
            <a:ext cx="9144000" cy="2209680"/>
          </a:xfrm>
          <a:prstGeom prst="rect">
            <a:avLst/>
          </a:prstGeom>
          <a:solidFill>
            <a:srgbClr val="d00c0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259920"/>
            <a:ext cx="1600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24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905120" y="90792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tudying the S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44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46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49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dio Telesco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6"/>
          <p:cNvGrpSpPr/>
          <p:nvPr/>
        </p:nvGrpSpPr>
        <p:grpSpPr>
          <a:xfrm>
            <a:off x="797040" y="2476440"/>
            <a:ext cx="7549920" cy="3162240"/>
            <a:chOff x="797040" y="2476440"/>
            <a:chExt cx="7549920" cy="3162240"/>
          </a:xfrm>
        </p:grpSpPr>
        <p:sp>
          <p:nvSpPr>
            <p:cNvPr id="353" name="AutoShape 11"/>
            <p:cNvSpPr/>
            <p:nvPr/>
          </p:nvSpPr>
          <p:spPr>
            <a:xfrm>
              <a:off x="797040" y="2476440"/>
              <a:ext cx="7549920" cy="31622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Group 15"/>
            <p:cNvGrpSpPr/>
            <p:nvPr/>
          </p:nvGrpSpPr>
          <p:grpSpPr>
            <a:xfrm>
              <a:off x="988200" y="2885040"/>
              <a:ext cx="7164720" cy="2346480"/>
              <a:chOff x="988200" y="2885040"/>
              <a:chExt cx="7164720" cy="2346480"/>
            </a:xfrm>
          </p:grpSpPr>
          <p:pic>
            <p:nvPicPr>
              <p:cNvPr id="355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988200" y="2885040"/>
                <a:ext cx="3658320" cy="234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4552200" y="2885040"/>
                <a:ext cx="3600720" cy="231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58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59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5"/>
              <p:cNvSpPr/>
              <p:nvPr/>
            </p:nvSpPr>
            <p:spPr>
              <a:xfrm>
                <a:off x="1021320" y="1638360"/>
                <a:ext cx="5734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Detecting Invisible Radi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62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3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64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67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1209600" y="21636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1736640" y="263520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telescopes are much less affected by turbulence in the atmosphere, clouds, and the wea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1736640" y="378792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rotective dome is required, which reduces the cost of co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1736640" y="458784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telescopes can “see” through interstellar dust clouds that obscure visible wavelength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75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76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5"/>
              <p:cNvSpPr/>
              <p:nvPr/>
            </p:nvSpPr>
            <p:spPr>
              <a:xfrm>
                <a:off x="1022760" y="1638360"/>
                <a:ext cx="370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ace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79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81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84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1260360" y="216360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 telescopes orbit above Earth’s atmosphere and thus produce clearer images than Earth-based telesco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7"/>
          <p:cNvSpPr/>
          <p:nvPr/>
        </p:nvSpPr>
        <p:spPr>
          <a:xfrm>
            <a:off x="1736640" y="3978360"/>
            <a:ext cx="70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pace telescope, built by NASA, was the Hubble Space Telescope. Hubble was put into orbit around Earth in April 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9"/>
          <p:cNvSpPr/>
          <p:nvPr/>
        </p:nvSpPr>
        <p:spPr>
          <a:xfrm>
            <a:off x="1260360" y="34988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bble Space Tele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91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93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96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ubble Space Tele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Group 14"/>
          <p:cNvGrpSpPr/>
          <p:nvPr/>
        </p:nvGrpSpPr>
        <p:grpSpPr>
          <a:xfrm>
            <a:off x="2908440" y="2286000"/>
            <a:ext cx="3327120" cy="3556080"/>
            <a:chOff x="2908440" y="2286000"/>
            <a:chExt cx="3327120" cy="3556080"/>
          </a:xfrm>
        </p:grpSpPr>
        <p:sp>
          <p:nvSpPr>
            <p:cNvPr id="400" name="AutoShape 11"/>
            <p:cNvSpPr/>
            <p:nvPr/>
          </p:nvSpPr>
          <p:spPr>
            <a:xfrm>
              <a:off x="2908440" y="2286000"/>
              <a:ext cx="3327120" cy="3556080"/>
            </a:xfrm>
            <a:custGeom>
              <a:avLst/>
              <a:gdLst>
                <a:gd name="textAreaLeft" fmla="*/ 215640 w 3327120"/>
                <a:gd name="textAreaRight" fmla="*/ 3111480 w 3327120"/>
                <a:gd name="textAreaTop" fmla="*/ 215640 h 3556080"/>
                <a:gd name="textAreaBottom" fmla="*/ 3340440 h 3556080"/>
              </a:gdLst>
              <a:ahLst/>
              <a:rect l="textAreaLeft" t="textAreaTop" r="textAreaRight" b="textAreaBottom"/>
              <a:pathLst>
                <a:path w="21600" h="23086">
                  <a:moveTo>
                    <a:pt x="4780" y="0"/>
                  </a:moveTo>
                  <a:arcTo wR="4780" hR="4780" stAng="16200000" swAng="-5400000"/>
                  <a:lnTo>
                    <a:pt x="0" y="18306"/>
                  </a:lnTo>
                  <a:arcTo wR="4780" hR="4780" stAng="10800000" swAng="-5400000"/>
                  <a:lnTo>
                    <a:pt x="16820" y="23086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Picture 13" descr=""/>
            <p:cNvPicPr/>
            <p:nvPr/>
          </p:nvPicPr>
          <p:blipFill>
            <a:blip r:embed="rId1"/>
            <a:stretch/>
          </p:blipFill>
          <p:spPr>
            <a:xfrm>
              <a:off x="3243600" y="2645280"/>
              <a:ext cx="2656080" cy="283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403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404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5"/>
              <p:cNvSpPr/>
              <p:nvPr/>
            </p:nvSpPr>
            <p:spPr>
              <a:xfrm>
                <a:off x="1022760" y="1638360"/>
                <a:ext cx="3701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ace Telescopes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407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409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412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2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ools for Studying Space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5"/>
          <p:cNvSpPr/>
          <p:nvPr/>
        </p:nvSpPr>
        <p:spPr>
          <a:xfrm>
            <a:off x="1260360" y="216360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pace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6"/>
          <p:cNvSpPr/>
          <p:nvPr/>
        </p:nvSpPr>
        <p:spPr>
          <a:xfrm>
            <a:off x="1736640" y="263520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udy X-rays, NASA uses the Chandra X-Ray Observatory. This space telescope was launched in 199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"/>
          <p:cNvSpPr/>
          <p:nvPr/>
        </p:nvSpPr>
        <p:spPr>
          <a:xfrm>
            <a:off x="1736640" y="378936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pace telescope, the Compton Gamma-Ray Observatory, was used to study both visible light and gamma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9"/>
          <p:cNvSpPr/>
          <p:nvPr/>
        </p:nvSpPr>
        <p:spPr>
          <a:xfrm>
            <a:off x="1736640" y="495612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11, NASA plans to launch the James Webb Space Telescope to study infrared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20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22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25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ages of the Milky Way Galax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14"/>
          <p:cNvGrpSpPr/>
          <p:nvPr/>
        </p:nvGrpSpPr>
        <p:grpSpPr>
          <a:xfrm>
            <a:off x="1149480" y="1943280"/>
            <a:ext cx="6845040" cy="4431960"/>
            <a:chOff x="1149480" y="1943280"/>
            <a:chExt cx="6845040" cy="4431960"/>
          </a:xfrm>
        </p:grpSpPr>
        <p:sp>
          <p:nvSpPr>
            <p:cNvPr id="429" name="AutoShape 11"/>
            <p:cNvSpPr/>
            <p:nvPr/>
          </p:nvSpPr>
          <p:spPr>
            <a:xfrm>
              <a:off x="1149480" y="1943280"/>
              <a:ext cx="6845040" cy="44319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13" descr=""/>
            <p:cNvPicPr/>
            <p:nvPr/>
          </p:nvPicPr>
          <p:blipFill>
            <a:blip r:embed="rId1"/>
            <a:stretch/>
          </p:blipFill>
          <p:spPr>
            <a:xfrm>
              <a:off x="1509840" y="2238480"/>
              <a:ext cx="6123600" cy="384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432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433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5"/>
              <p:cNvSpPr/>
              <p:nvPr/>
            </p:nvSpPr>
            <p:spPr>
              <a:xfrm>
                <a:off x="1020600" y="1638360"/>
                <a:ext cx="408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tructure of th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436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7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438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441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5"/>
          <p:cNvSpPr/>
          <p:nvPr/>
        </p:nvSpPr>
        <p:spPr>
          <a:xfrm>
            <a:off x="1260360" y="2163600"/>
            <a:ext cx="7597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sun is made of gas, no sharp boundaries exist between its various layers. Keeping this in mind, we can divide the sun into four parts: the solar interior; the visible surface, or photosphere; and two atmospheric layers, the chromosphere and coro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446" name="Group 21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447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5"/>
              <p:cNvSpPr/>
              <p:nvPr/>
            </p:nvSpPr>
            <p:spPr>
              <a:xfrm>
                <a:off x="1020600" y="1488960"/>
                <a:ext cx="408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tructure of th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450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452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455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t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1736640" y="2494080"/>
            <a:ext cx="710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hotosphe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region of the sun that radiates energy to space, or the visible surface of the su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7"/>
          <p:cNvSpPr/>
          <p:nvPr/>
        </p:nvSpPr>
        <p:spPr>
          <a:xfrm>
            <a:off x="1736640" y="3203640"/>
            <a:ext cx="710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 consists of a layer of incandescent gas less than 500 kilometers thic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8"/>
          <p:cNvSpPr/>
          <p:nvPr/>
        </p:nvSpPr>
        <p:spPr>
          <a:xfrm>
            <a:off x="1736640" y="3924360"/>
            <a:ext cx="71024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exhibits a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grainy texture made up of many small, bright markings, called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granule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, produced by convec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9"/>
          <p:cNvSpPr/>
          <p:nvPr/>
        </p:nvSpPr>
        <p:spPr>
          <a:xfrm>
            <a:off x="1736640" y="4960800"/>
            <a:ext cx="7151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ost of the elements found on Earth also occur on the sun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0"/>
          <p:cNvSpPr/>
          <p:nvPr/>
        </p:nvSpPr>
        <p:spPr>
          <a:xfrm>
            <a:off x="1736640" y="5668920"/>
            <a:ext cx="7180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Its temperature averages approximately 6000 K (10,000ºF)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65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67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70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tructure of the S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3" name="Group 14"/>
          <p:cNvGrpSpPr/>
          <p:nvPr/>
        </p:nvGrpSpPr>
        <p:grpSpPr>
          <a:xfrm>
            <a:off x="704880" y="1587600"/>
            <a:ext cx="7734240" cy="5092560"/>
            <a:chOff x="704880" y="1587600"/>
            <a:chExt cx="7734240" cy="5092560"/>
          </a:xfrm>
        </p:grpSpPr>
        <p:sp>
          <p:nvSpPr>
            <p:cNvPr id="474" name="AutoShape 11"/>
            <p:cNvSpPr/>
            <p:nvPr/>
          </p:nvSpPr>
          <p:spPr>
            <a:xfrm>
              <a:off x="704880" y="1587600"/>
              <a:ext cx="773424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5" name="Picture 13" descr=""/>
            <p:cNvPicPr/>
            <p:nvPr/>
          </p:nvPicPr>
          <p:blipFill>
            <a:blip r:embed="rId1"/>
            <a:stretch/>
          </p:blipFill>
          <p:spPr>
            <a:xfrm>
              <a:off x="1220760" y="1917720"/>
              <a:ext cx="6702480" cy="443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477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478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5"/>
              <p:cNvSpPr/>
              <p:nvPr/>
            </p:nvSpPr>
            <p:spPr>
              <a:xfrm>
                <a:off x="1020600" y="1488960"/>
                <a:ext cx="408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tructure of th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48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48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48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6"/>
          <p:cNvSpPr/>
          <p:nvPr/>
        </p:nvSpPr>
        <p:spPr>
          <a:xfrm>
            <a:off x="1736640" y="248904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romosp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first layer of the solar atmosphere found directly above the phot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7"/>
          <p:cNvSpPr/>
          <p:nvPr/>
        </p:nvSpPr>
        <p:spPr>
          <a:xfrm>
            <a:off x="1736640" y="36259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vely thin, hot layer of incandescent gases a few thousand kilometers thi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8"/>
          <p:cNvSpPr/>
          <p:nvPr/>
        </p:nvSpPr>
        <p:spPr>
          <a:xfrm>
            <a:off x="1736640" y="439416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p contains numer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icule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ich are narrow jets of rising mater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97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98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5"/>
              <p:cNvSpPr/>
              <p:nvPr/>
            </p:nvSpPr>
            <p:spPr>
              <a:xfrm>
                <a:off x="1021320" y="1638360"/>
                <a:ext cx="530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lectromagnetic Radi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0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0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0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1260360" y="2163600"/>
            <a:ext cx="763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ectromagnetic radiation includes gamma rays, X-rays, ultraviolet light, visible light, infrared radiation, microwaves, and radio w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60360" y="390996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ectromagnetic spec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arrangement of electromagnetic radiation according to wave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94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5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96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99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rom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Group 14"/>
          <p:cNvGrpSpPr/>
          <p:nvPr/>
        </p:nvGrpSpPr>
        <p:grpSpPr>
          <a:xfrm>
            <a:off x="1638360" y="1612800"/>
            <a:ext cx="5867280" cy="5092920"/>
            <a:chOff x="1638360" y="1612800"/>
            <a:chExt cx="5867280" cy="5092920"/>
          </a:xfrm>
        </p:grpSpPr>
        <p:sp>
          <p:nvSpPr>
            <p:cNvPr id="503" name="AutoShape 11"/>
            <p:cNvSpPr/>
            <p:nvPr/>
          </p:nvSpPr>
          <p:spPr>
            <a:xfrm>
              <a:off x="1638360" y="1612800"/>
              <a:ext cx="5867280" cy="509292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4" name="Picture 13" descr=""/>
            <p:cNvPicPr/>
            <p:nvPr/>
          </p:nvPicPr>
          <p:blipFill>
            <a:blip r:embed="rId1"/>
            <a:stretch/>
          </p:blipFill>
          <p:spPr>
            <a:xfrm>
              <a:off x="2266920" y="1854360"/>
              <a:ext cx="4611600" cy="46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506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507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5"/>
              <p:cNvSpPr/>
              <p:nvPr/>
            </p:nvSpPr>
            <p:spPr>
              <a:xfrm>
                <a:off x="1020600" y="1488960"/>
                <a:ext cx="408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tructure of th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510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1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512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515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6"/>
          <p:cNvSpPr/>
          <p:nvPr/>
        </p:nvSpPr>
        <p:spPr>
          <a:xfrm>
            <a:off x="1736640" y="247644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ro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outer, weak layer of the solar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1736640" y="32623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e at the top of the corona exceeds 1 million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1736640" y="406404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 wi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stream of protons and electrons ejected at high speed from the solar cor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523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524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5"/>
              <p:cNvSpPr/>
              <p:nvPr/>
            </p:nvSpPr>
            <p:spPr>
              <a:xfrm>
                <a:off x="1020960" y="1488960"/>
                <a:ext cx="311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Activ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527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8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529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532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sp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16"/>
          <p:cNvSpPr/>
          <p:nvPr/>
        </p:nvSpPr>
        <p:spPr>
          <a:xfrm>
            <a:off x="1736640" y="3276720"/>
            <a:ext cx="708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spots appear dark because of their temperature, which is about 1500 K less than that of the surrounding solar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7"/>
          <p:cNvSpPr/>
          <p:nvPr/>
        </p:nvSpPr>
        <p:spPr>
          <a:xfrm>
            <a:off x="1736640" y="2475000"/>
            <a:ext cx="70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unsp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dark spot on the sun that is cool in contrast to the surrounding phot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39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41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44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nsp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16"/>
          <p:cNvGrpSpPr/>
          <p:nvPr/>
        </p:nvGrpSpPr>
        <p:grpSpPr>
          <a:xfrm>
            <a:off x="247680" y="2031840"/>
            <a:ext cx="8623440" cy="4089600"/>
            <a:chOff x="247680" y="2031840"/>
            <a:chExt cx="8623440" cy="4089600"/>
          </a:xfrm>
        </p:grpSpPr>
        <p:sp>
          <p:nvSpPr>
            <p:cNvPr id="548" name="AutoShape 11"/>
            <p:cNvSpPr/>
            <p:nvPr/>
          </p:nvSpPr>
          <p:spPr>
            <a:xfrm>
              <a:off x="247680" y="2031840"/>
              <a:ext cx="8623440" cy="408960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15"/>
            <p:cNvGrpSpPr/>
            <p:nvPr/>
          </p:nvGrpSpPr>
          <p:grpSpPr>
            <a:xfrm>
              <a:off x="587520" y="2487600"/>
              <a:ext cx="7945200" cy="3179880"/>
              <a:chOff x="587520" y="2487600"/>
              <a:chExt cx="7945200" cy="3179880"/>
            </a:xfrm>
          </p:grpSpPr>
          <p:pic>
            <p:nvPicPr>
              <p:cNvPr id="550" name="Pictu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2494080"/>
                <a:ext cx="4103640" cy="317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Picture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587520" y="2487600"/>
                <a:ext cx="3968640" cy="314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553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554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Rectangle 5"/>
              <p:cNvSpPr/>
              <p:nvPr/>
            </p:nvSpPr>
            <p:spPr>
              <a:xfrm>
                <a:off x="1020960" y="1488960"/>
                <a:ext cx="311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Activ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557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8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559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562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in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736640" y="328932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inences are ionized gases trapped by magnetic fields that extend from regions of intense solar acti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1736640" y="249228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in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huge cloudlike structures consisting of chromospheric g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69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71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74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lar Promin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Group 14"/>
          <p:cNvGrpSpPr/>
          <p:nvPr/>
        </p:nvGrpSpPr>
        <p:grpSpPr>
          <a:xfrm>
            <a:off x="882720" y="1555920"/>
            <a:ext cx="7378560" cy="5092560"/>
            <a:chOff x="882720" y="1555920"/>
            <a:chExt cx="7378560" cy="5092560"/>
          </a:xfrm>
        </p:grpSpPr>
        <p:sp>
          <p:nvSpPr>
            <p:cNvPr id="578" name="AutoShape 11"/>
            <p:cNvSpPr/>
            <p:nvPr/>
          </p:nvSpPr>
          <p:spPr>
            <a:xfrm>
              <a:off x="882720" y="1555920"/>
              <a:ext cx="737856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9" name="Picture 13" descr=""/>
            <p:cNvPicPr/>
            <p:nvPr/>
          </p:nvPicPr>
          <p:blipFill>
            <a:blip r:embed="rId1"/>
            <a:stretch/>
          </p:blipFill>
          <p:spPr>
            <a:xfrm>
              <a:off x="1380960" y="1963800"/>
              <a:ext cx="6380280" cy="4278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"/>
          <p:cNvGrpSpPr/>
          <p:nvPr/>
        </p:nvGrpSpPr>
        <p:grpSpPr>
          <a:xfrm>
            <a:off x="-4680" y="0"/>
            <a:ext cx="9159840" cy="6692760"/>
            <a:chOff x="-4680" y="0"/>
            <a:chExt cx="9159840" cy="6692760"/>
          </a:xfrm>
        </p:grpSpPr>
        <p:grpSp>
          <p:nvGrpSpPr>
            <p:cNvPr id="581" name="Group 3"/>
            <p:cNvGrpSpPr/>
            <p:nvPr/>
          </p:nvGrpSpPr>
          <p:grpSpPr>
            <a:xfrm>
              <a:off x="316080" y="1422360"/>
              <a:ext cx="8534160" cy="5270400"/>
              <a:chOff x="316080" y="1422360"/>
              <a:chExt cx="8534160" cy="5270400"/>
            </a:xfrm>
          </p:grpSpPr>
          <p:sp>
            <p:nvSpPr>
              <p:cNvPr id="582" name="AutoShape 4"/>
              <p:cNvSpPr/>
              <p:nvPr/>
            </p:nvSpPr>
            <p:spPr>
              <a:xfrm>
                <a:off x="31608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5"/>
              <p:cNvSpPr/>
              <p:nvPr/>
            </p:nvSpPr>
            <p:spPr>
              <a:xfrm>
                <a:off x="1020960" y="1488960"/>
                <a:ext cx="3115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Active Su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585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6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587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590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6"/>
          <p:cNvSpPr/>
          <p:nvPr/>
        </p:nvSpPr>
        <p:spPr>
          <a:xfrm>
            <a:off x="1736640" y="399564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ir existence, solar flares release enormous amounts of energy, much of it in the form of ultraviolet, radio, and X-ray radi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7"/>
          <p:cNvSpPr/>
          <p:nvPr/>
        </p:nvSpPr>
        <p:spPr>
          <a:xfrm>
            <a:off x="1736640" y="2492280"/>
            <a:ext cx="701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 fl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rief outbursts that normally last about an hour and appear as a sudden brightening of the region above a sunspot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8"/>
          <p:cNvSpPr/>
          <p:nvPr/>
        </p:nvSpPr>
        <p:spPr>
          <a:xfrm>
            <a:off x="1736640" y="5143680"/>
            <a:ext cx="693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sult of solar flares, are bright displays of ever-changing light caused by solar radiation interacting with the upper atmosphere in the region of the p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98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00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03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urora Boreal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Group 14"/>
          <p:cNvGrpSpPr/>
          <p:nvPr/>
        </p:nvGrpSpPr>
        <p:grpSpPr>
          <a:xfrm>
            <a:off x="882720" y="1555920"/>
            <a:ext cx="7378560" cy="5092560"/>
            <a:chOff x="882720" y="1555920"/>
            <a:chExt cx="7378560" cy="5092560"/>
          </a:xfrm>
        </p:grpSpPr>
        <p:sp>
          <p:nvSpPr>
            <p:cNvPr id="607" name="AutoShape 11"/>
            <p:cNvSpPr/>
            <p:nvPr/>
          </p:nvSpPr>
          <p:spPr>
            <a:xfrm>
              <a:off x="882720" y="1555920"/>
              <a:ext cx="737856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Picture 13" descr=""/>
            <p:cNvPicPr/>
            <p:nvPr/>
          </p:nvPicPr>
          <p:blipFill>
            <a:blip r:embed="rId1"/>
            <a:stretch/>
          </p:blipFill>
          <p:spPr>
            <a:xfrm>
              <a:off x="1355760" y="1989360"/>
              <a:ext cx="6432480" cy="422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0"/>
            <a:ext cx="9159840" cy="6692760"/>
            <a:chOff x="0" y="0"/>
            <a:chExt cx="9159840" cy="6692760"/>
          </a:xfrm>
        </p:grpSpPr>
        <p:grpSp>
          <p:nvGrpSpPr>
            <p:cNvPr id="610" name="Group 3"/>
            <p:cNvGrpSpPr/>
            <p:nvPr/>
          </p:nvGrpSpPr>
          <p:grpSpPr>
            <a:xfrm>
              <a:off x="320760" y="1422360"/>
              <a:ext cx="8534160" cy="5270400"/>
              <a:chOff x="320760" y="1422360"/>
              <a:chExt cx="8534160" cy="5270400"/>
            </a:xfrm>
          </p:grpSpPr>
          <p:sp>
            <p:nvSpPr>
              <p:cNvPr id="611" name="AutoShape 4"/>
              <p:cNvSpPr/>
              <p:nvPr/>
            </p:nvSpPr>
            <p:spPr>
              <a:xfrm>
                <a:off x="320760" y="1422360"/>
                <a:ext cx="8534160" cy="527040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025640" y="1488960"/>
                <a:ext cx="354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Solar Interior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6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614" name="Rectangle 7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5" name="Group 8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616" name="Line 9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0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619" name="Line 12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3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un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260360" y="201132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ar 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736640" y="3997440"/>
            <a:ext cx="707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nuclear fusion, energy is released because some matter is actually converted to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7"/>
          <p:cNvSpPr/>
          <p:nvPr/>
        </p:nvSpPr>
        <p:spPr>
          <a:xfrm>
            <a:off x="1736640" y="2481120"/>
            <a:ext cx="707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ar 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way that the sun produces energy. This reaction converts four hydrogen nuclei into the nucleus of a helium atom, releasing a tremendous amount of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19"/>
          <p:cNvSpPr/>
          <p:nvPr/>
        </p:nvSpPr>
        <p:spPr>
          <a:xfrm>
            <a:off x="1736640" y="5126040"/>
            <a:ext cx="686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thought that a star the size of the sun can exist in its present stable state for 10 billion years. As the sun is already 4.5 billion years old, it is “middle-ag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627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29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32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clear 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14"/>
          <p:cNvGrpSpPr/>
          <p:nvPr/>
        </p:nvGrpSpPr>
        <p:grpSpPr>
          <a:xfrm>
            <a:off x="1670040" y="1585800"/>
            <a:ext cx="5803920" cy="5092920"/>
            <a:chOff x="1670040" y="1585800"/>
            <a:chExt cx="5803920" cy="5092920"/>
          </a:xfrm>
        </p:grpSpPr>
        <p:sp>
          <p:nvSpPr>
            <p:cNvPr id="636" name="AutoShape 11"/>
            <p:cNvSpPr/>
            <p:nvPr/>
          </p:nvSpPr>
          <p:spPr>
            <a:xfrm>
              <a:off x="1670040" y="1585800"/>
              <a:ext cx="5803920" cy="509292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7" name="Picture 13" descr=""/>
            <p:cNvPicPr/>
            <p:nvPr/>
          </p:nvPicPr>
          <p:blipFill>
            <a:blip r:embed="rId1"/>
            <a:stretch/>
          </p:blipFill>
          <p:spPr>
            <a:xfrm>
              <a:off x="2219400" y="1779480"/>
              <a:ext cx="4705200" cy="470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12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14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17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23"/>
          <p:cNvGrpSpPr/>
          <p:nvPr/>
        </p:nvGrpSpPr>
        <p:grpSpPr>
          <a:xfrm>
            <a:off x="882720" y="1587600"/>
            <a:ext cx="7378560" cy="5092560"/>
            <a:chOff x="882720" y="1587600"/>
            <a:chExt cx="7378560" cy="5092560"/>
          </a:xfrm>
        </p:grpSpPr>
        <p:sp>
          <p:nvSpPr>
            <p:cNvPr id="121" name="AutoShape 11"/>
            <p:cNvSpPr/>
            <p:nvPr/>
          </p:nvSpPr>
          <p:spPr>
            <a:xfrm>
              <a:off x="882720" y="1587600"/>
              <a:ext cx="737856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icture 22" descr=""/>
            <p:cNvPicPr/>
            <p:nvPr/>
          </p:nvPicPr>
          <p:blipFill>
            <a:blip r:embed="rId1"/>
            <a:stretch/>
          </p:blipFill>
          <p:spPr>
            <a:xfrm>
              <a:off x="1519200" y="1749600"/>
              <a:ext cx="6105600" cy="477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24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25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5"/>
              <p:cNvSpPr/>
              <p:nvPr/>
            </p:nvSpPr>
            <p:spPr>
              <a:xfrm>
                <a:off x="1021320" y="1638360"/>
                <a:ext cx="530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lectromagnetic Radiation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28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30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33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ture of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1736640" y="2637000"/>
            <a:ext cx="710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some instances light behaves like waves, and in others, like particles. In the wave sense, light can be thought of as swells in the ocean. This motion is characterized by a property known as wavelength, which is the distance from one wave crest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1260360" y="488628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hot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1736640" y="537048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ot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small packet of light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41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42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5"/>
              <p:cNvSpPr/>
              <p:nvPr/>
            </p:nvSpPr>
            <p:spPr>
              <a:xfrm>
                <a:off x="1021320" y="1638360"/>
                <a:ext cx="286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ectroscop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45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47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50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260360" y="216360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ectroscop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study of the properties of light that depend on wave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247760" y="35607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1724040" y="402444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ous spectr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n uninterrupted band of light emitted by an incandescent solid, liquid, or gas under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57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58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Rectangle 5"/>
              <p:cNvSpPr/>
              <p:nvPr/>
            </p:nvSpPr>
            <p:spPr>
              <a:xfrm>
                <a:off x="1021320" y="1638360"/>
                <a:ext cx="286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ectroscop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61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63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66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21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bsorption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1736640" y="2614680"/>
            <a:ext cx="707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bsorption spectr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continuous spectrum produced when white light passes through a cool gas under low pressure. The gas absorbs selected wavelengths of light, and the spectrum looks like it has dark lines superimpo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72" name="Group 3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73" name="AutoShape 4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5"/>
              <p:cNvSpPr/>
              <p:nvPr/>
            </p:nvSpPr>
            <p:spPr>
              <a:xfrm>
                <a:off x="1021320" y="1638360"/>
                <a:ext cx="286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Spectroscop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6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76" name="Rectangle 7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8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78" name="Line 9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Group 11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81" name="Line 12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3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845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4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The Study of Light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1736640" y="263052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on spectr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series of bright lines of particular wavelengths produced by a hot gas under low press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mission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1736640" y="3795840"/>
            <a:ext cx="71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spectrum of a star is studied, the spectral lines act as “fingerprints.” These lines identify the elements present and thus the star’s chemical compos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88" name="Rectangle 3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4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90" name="Line 5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6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7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93" name="Line 8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9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845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tion of Spectr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4"/>
          <p:cNvGrpSpPr/>
          <p:nvPr/>
        </p:nvGrpSpPr>
        <p:grpSpPr>
          <a:xfrm>
            <a:off x="1047600" y="1587600"/>
            <a:ext cx="7048800" cy="5092560"/>
            <a:chOff x="1047600" y="1587600"/>
            <a:chExt cx="7048800" cy="5092560"/>
          </a:xfrm>
        </p:grpSpPr>
        <p:sp>
          <p:nvSpPr>
            <p:cNvPr id="197" name="AutoShape 11"/>
            <p:cNvSpPr/>
            <p:nvPr/>
          </p:nvSpPr>
          <p:spPr>
            <a:xfrm>
              <a:off x="1047600" y="1587600"/>
              <a:ext cx="704880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Picture 13" descr=""/>
            <p:cNvPicPr/>
            <p:nvPr/>
          </p:nvPicPr>
          <p:blipFill>
            <a:blip r:embed="rId1"/>
            <a:stretch/>
          </p:blipFill>
          <p:spPr>
            <a:xfrm>
              <a:off x="1585800" y="1839960"/>
              <a:ext cx="5970600" cy="458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0:31:17Z</dcterms:created>
  <dc:creator>Stan &amp; Cindy Hatfield</dc:creator>
  <dc:description/>
  <dc:language>en-US</dc:language>
  <cp:lastModifiedBy>test</cp:lastModifiedBy>
  <cp:lastPrinted>2004-09-17T19:36:04Z</cp:lastPrinted>
  <dcterms:modified xsi:type="dcterms:W3CDTF">2014-04-25T12:48:30Z</dcterms:modified>
  <cp:revision>929</cp:revision>
  <dc:subject/>
  <dc:title>Volcanoes and Igneous Activity  Earth  -  Chapter 4</dc:title>
</cp:coreProperties>
</file>